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ECE44-7079-4631-8E05-5BDB3C9B1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0462-A44A-48EC-AADB-743FEFDE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134B7-6FD4-4CCA-B7CA-F674F035F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F0F30-72EB-4A3A-8675-72930FB7D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F2344-363B-4666-BE0D-F7AF6F467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7EE0E-C6D6-4F33-B360-B31F22DA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2FD31-2A90-4AFD-BD5C-9E1ADD513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F2DBB-633C-4A6F-926A-AEC9C9F5A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0CC60-324A-4D8B-9754-3CAE17EB6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A9AAC-7B81-4919-9F5E-2D9898195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6743-2A8A-4863-A3BB-973BF03DB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0A4D-09F2-4BA7-A088-87D2517B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751AD-FE17-4861-A232-5564760C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605C0-3282-4941-87F8-9EA8202D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604BB-7634-416B-8BCD-4ADD10535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DF257-6068-465B-8F56-8153F9D1C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36D42-DD92-4AF0-9561-E41AA99A3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4BF88-43D4-4E4C-9589-847B464892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956A5-C33A-4492-B2CC-CB22E4DDF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B9F02-D627-41B2-BD7E-342AEB276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A8796-FBA0-4C92-B7A2-A33737830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05FA2-41DA-4D7F-909E-A54FE777F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24A0-A275-4454-9B7A-75826860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5D88D-C5FA-45BC-94BB-7F8FA8A3C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450BC-68B1-4B37-A9BF-99B19F948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2BD1E-91F7-47E1-9D01-BC402FDA3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DF93A-55F8-43E5-9840-1021BD18C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CFA72-E940-4034-A10F-2AD65DDC7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5714F-CB58-4B75-AD80-34389562E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68A937-C264-40FC-A253-8A4D5FF72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AA8987-EBE3-46DF-8158-92B681EDC7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798B1-8CCC-483A-8A13-04CDC1629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C1E7F-459F-4951-B997-1642B6439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0AEA-76F4-49D8-82F8-C229CCFA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6ABE8-2E33-46DD-9C70-C01C38457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724C5-F26F-4D4B-8B2D-8EE43387A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F700C-EDBE-49F3-8D6B-218FB8D16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08FE9-16DE-462A-AC23-7FF0B36A1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3CA39-78EE-4CDE-AD79-9106623C9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F276C-1239-477E-BE01-8A8600E4B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256C3-A4D8-4D33-A5F5-46FB0E0CF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E0C02A-636E-4089-B409-7F85A2EA8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997A7-0BAA-4D13-A919-917DFCEE1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C1AD4-CA1B-45FC-8B0A-D15EB6198B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5D6E6-5D01-434E-BD13-6D0533032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251CF-F4F9-4F16-AAB2-D0C16E4BB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06312-BDE8-4799-AEC2-E16E02A912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E5B15-36C3-4A3B-BB98-55F1261CD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4F9E1-4A12-4CAF-B89E-A1BAD4A9F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F0BC9-449A-466F-8C63-B202146E0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DEE959-B5CA-4535-B773-C895DBC75F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BAFD1-1B07-404C-84D4-364267FB7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8FAB8-DE11-48B2-ACA4-0DA3F497B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02F48-2A40-43C6-A288-7C5BB196B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4BDCCD-F231-4EAB-8C13-5BDD2C549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6297-4ACA-4592-9C9E-9FAF38CB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D18E4E-E441-4C14-80A0-2182E1B916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C0A96C-50EF-4C4C-AE93-0C7CDD95D5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A0FC2-47EF-4588-B7ED-ED7E158FC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1FEF3-53A4-4AB6-89DE-9B96A3868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479B7-E79B-44F0-8174-A481FAFE7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E417B5-C960-435F-8D68-B99D2DA93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1B383-B2F8-45E4-9FC1-35C571E94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72FFC-A574-4BDF-A548-F4F0930E1E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70518-397B-4285-A6B8-82362438B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4C447-908B-40DA-A385-04B241C19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3C82-9D40-4489-9B00-BCD99E3E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7ABA0-B308-44C3-A32A-D8B9525B1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B52441-44FF-4D4F-8016-C2FEEF31AB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D0470-19AB-4A94-B152-D57E71FB24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124BAB-EAB2-423C-B63A-F2CDD6606D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A8C65-78B1-44BD-9EF3-E892B3CE9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01E54-B86E-4212-9104-5D3A281A26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1AD18-D83A-490D-A086-ABFAFBCC60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E5061-2419-4B7E-B2B1-45005A5EC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F6F59-87AA-4A0E-90E5-D7975A4CE0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A4728-7334-4A3A-A3E3-D3D784CB7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DE80-0AF0-459B-916D-FFD5170E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0C4FF-14F4-4CF4-BB75-12AAC0FAB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45FB6-ECD3-42AD-8E7F-B5EACF5F4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F9FF4-32D9-4BE8-973C-46B43A99B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FFFFAB-099A-4736-A9A5-B7EE95A9BC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DA483A-6302-4645-8DE1-18B9916712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dc4c"/>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F376-BF7D-41B0-BDB4-9A9B394F4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8A3B-435B-45A4-98C2-65C5316945AD}"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88BA-2808-4A07-B3E1-96318CE8262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7FAE-1600-4E73-B16B-8B2D74E1949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2AB3-1F16-4E92-988F-DE8882E12627}"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CA87-BADF-4AA4-AEB8-49A1701D112B}"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BE6-89F2-42AF-9252-87C695E2B140}"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dc4c"/>
                </a:solidFill>
                <a:latin typeface="Corbel"/>
              </a:rPr>
              <a:t>Click to edit the title text format</a:t>
            </a:r>
            <a:endParaRPr b="1" lang="en-US" sz="4500" spc="-1" strike="noStrike">
              <a:solidFill>
                <a:srgbClr val="00dc4c"/>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D7A8-FD68-43D4-B40D-B02D934C4CB0}"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2" descr=""/>
          <p:cNvPicPr/>
          <p:nvPr/>
        </p:nvPicPr>
        <p:blipFill>
          <a:blip r:embed="rId1"/>
          <a:stretch/>
        </p:blipFill>
        <p:spPr>
          <a:xfrm>
            <a:off x="682560" y="3693960"/>
            <a:ext cx="8089920" cy="1798920"/>
          </a:xfrm>
          <a:prstGeom prst="rect">
            <a:avLst/>
          </a:prstGeom>
          <a:ln w="0">
            <a:noFill/>
          </a:ln>
        </p:spPr>
      </p:pic>
      <p:sp>
        <p:nvSpPr>
          <p:cNvPr id="304" name="PlaceHolder 1"/>
          <p:cNvSpPr>
            <a:spLocks noGrp="1"/>
          </p:cNvSpPr>
          <p:nvPr>
            <p:ph type="subTitle"/>
          </p:nvPr>
        </p:nvSpPr>
        <p:spPr>
          <a:xfrm>
            <a:off x="609120" y="30456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Bullying: How Can We Fight Against it?</a:t>
            </a:r>
            <a:endParaRPr b="0" lang="en-US" sz="3600" spc="-1" strike="noStrike">
              <a:solidFill>
                <a:srgbClr val="000000"/>
              </a:solidFill>
              <a:latin typeface="Corbel"/>
            </a:endParaRPr>
          </a:p>
        </p:txBody>
      </p:sp>
      <p:pic>
        <p:nvPicPr>
          <p:cNvPr id="305" name="Picture 4" descr=""/>
          <p:cNvPicPr/>
          <p:nvPr/>
        </p:nvPicPr>
        <p:blipFill>
          <a:blip r:embed="rId2"/>
          <a:stretch/>
        </p:blipFill>
        <p:spPr>
          <a:xfrm>
            <a:off x="3886200" y="2057400"/>
            <a:ext cx="175428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Participant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27 3</a:t>
            </a:r>
            <a:r>
              <a:rPr b="0" lang="en-US" sz="3000" spc="-1" strike="noStrike" baseline="30000">
                <a:solidFill>
                  <a:srgbClr val="ffffff"/>
                </a:solidFill>
                <a:latin typeface="Times New Roman"/>
                <a:ea typeface="Times New Roman"/>
              </a:rPr>
              <a:t>rd</a:t>
            </a:r>
            <a:r>
              <a:rPr b="0" lang="en-US" sz="3000" spc="-1" strike="noStrike">
                <a:solidFill>
                  <a:srgbClr val="ffffff"/>
                </a:solidFill>
                <a:latin typeface="Times New Roman"/>
                <a:ea typeface="Times New Roman"/>
              </a:rPr>
              <a:t> grade gifted students(ethnicity: 26 African  Americans and 1 Asian) </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 Teacher</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1 Principle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Instrument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nsent forms</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Pre-survey</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tudent-made performance skits </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hecklist during Role Play Performance</a:t>
            </a:r>
            <a:endParaRPr b="0" lang="en-US" sz="30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ssessment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152280"/>
            <a:ext cx="824256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Parent/Guardia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Bullying has become and still is a harmful act of youth that affects many of our students today. I will be incorporating anti-bullying strategies and character education within your child’s classroom. With this incorporation, I hope to decrease bullying or eliminate it all together.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With this permission, your child will be exposed to positive classroom and school behavior along with student civility. This will take place once a week for 45 minutes for a four week period. This incorporation will not steer away from your child’s every day education. I will measure your child’s progress by students creating a short skit that exemplifies good behavior and interaction with others. Your child’s name will be anonymous throughout the entire study and will be presented as group findings. If you have any questions or concerns please contact me at 917-922-5203. Thank you in advance for your support.</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give my child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arent’s Signature:___________________________________ Date:____________________</a:t>
            </a:r>
            <a:endParaRPr b="0" lang="en-US" sz="10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152280"/>
            <a:ext cx="8242560" cy="126216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I am requesting permission to incorporate anti-bullying strategies and character education into your classroom once a week for 45 minutes for a four week period. With this incorporation, my goal is to decrease bullying in the classroom and the school environment along with increasing student civility. I will measure students’ progress by students creating a short skit that exemplifies good behavior and interaction with others.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All findings will not be individualized; therefore student’s names will remain anonymous throughout the whole process. If you have any questions or concerns, please feel free to contact me at 917-922-5203. Thank you in advance.</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eachers Signature: ___________________________________ Date: 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152280"/>
            <a:ext cx="824256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ar Principle 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I am currently a graduate student at Brooklyn College studying Childhood Education. I am working on my thesis to research and come up with a solution against bullying.  I am requesting permission to incorporate anti-bullying strategies and character education into your school with a third grade class once a week for 45 minutes for a four week period. With this incorporation, my goal is to decrease bullying in the classroom and the school environment along with increasing student civility. I will measure students’ progress by students creating a short skit that exemplifies good behavior and interaction with others.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All findings will not be individualized; therefore student’s names will remain anonymous throughout the whole process. If you have any questions or concerns, please feel free to contact me at 917-922-5203. Thank you in advance.</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incerely,</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Emily Pau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X ____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Please tear off and return</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 __________________________________________ permission to be a participant in this research study.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ate: 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inciples Signature: ___________________________________ Date: ____________________</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0720" y="152280"/>
            <a:ext cx="8242560" cy="1262160"/>
          </a:xfrm>
          <a:prstGeom prst="rect">
            <a:avLst/>
          </a:prstGeom>
          <a:ln w="0">
            <a:noFill/>
          </a:ln>
        </p:spPr>
      </p:pic>
      <p:sp>
        <p:nvSpPr>
          <p:cNvPr id="335" name=""/>
          <p:cNvSpPr txBox="1"/>
          <p:nvPr/>
        </p:nvSpPr>
        <p:spPr>
          <a:xfrm>
            <a:off x="457200" y="1447920"/>
            <a:ext cx="8229600" cy="54100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Bandyopadhyay, S., Cornell, D.G., &amp; Konold, T.R. (2009). Validity of Three School Climate Scales to Assess Bullying, Aggressive Attitudes, and Help Seeking. </a:t>
            </a:r>
            <a:r>
              <a:rPr b="0" i="1" lang="en-US" sz="1300" spc="-1" strike="noStrike">
                <a:solidFill>
                  <a:srgbClr val="ffffff"/>
                </a:solidFill>
                <a:latin typeface="Times New Roman"/>
                <a:ea typeface="Times New Roman"/>
              </a:rPr>
              <a:t>The School Psychology Review</a:t>
            </a:r>
            <a:r>
              <a:rPr b="0" lang="en-US" sz="1300" spc="-1" strike="noStrike">
                <a:solidFill>
                  <a:srgbClr val="ffffff"/>
                </a:solidFill>
                <a:latin typeface="Times New Roman"/>
                <a:ea typeface="Times New Roman"/>
              </a:rPr>
              <a:t> v</a:t>
            </a:r>
            <a:r>
              <a:rPr b="0" i="1" lang="en-US" sz="1300" spc="-1" strike="noStrike">
                <a:solidFill>
                  <a:srgbClr val="ffffff"/>
                </a:solidFill>
                <a:latin typeface="Times New Roman"/>
                <a:ea typeface="Times New Roman"/>
              </a:rPr>
              <a:t>, 30(3) 338-355. </a:t>
            </a:r>
            <a:r>
              <a:rPr b="0" lang="en-US" sz="1300" spc="-1" strike="noStrike">
                <a:solidFill>
                  <a:srgbClr val="ffffff"/>
                </a:solidFill>
                <a:latin typeface="Times New Roman"/>
                <a:ea typeface="Times New Roman"/>
              </a:rPr>
              <a:t>Retrieved from http://www.nasponline.org/publications/spr/pdf/spr383bandyopadhyay.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Berkowitz, M.W., &amp; Bier, M.C. (2005). What Works In Character Education: A research-driven guide for educators. </a:t>
            </a:r>
            <a:r>
              <a:rPr b="0" i="1" lang="en-US" sz="1300" spc="-1" strike="noStrike">
                <a:solidFill>
                  <a:srgbClr val="ffffff"/>
                </a:solidFill>
                <a:latin typeface="Times New Roman"/>
                <a:ea typeface="Times New Roman"/>
              </a:rPr>
              <a:t>University of Missouri- St. Louis. </a:t>
            </a:r>
            <a:r>
              <a:rPr b="0" lang="en-US" sz="1300" spc="-1" strike="noStrike">
                <a:solidFill>
                  <a:srgbClr val="ffffff"/>
                </a:solidFill>
                <a:latin typeface="Times New Roman"/>
                <a:ea typeface="Times New Roman"/>
              </a:rPr>
              <a:t>Retrieved from http://www.rucharacter.org/file/practitioners_518.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Cook, C.R. , Williams, K. , Guerra, N.G., Kim, T.E., &amp; Sadek, S. (2010). Predictors of Bullying and Victimization in Childhood and Adolescence: A Meta-analytic Investigation. </a:t>
            </a:r>
            <a:r>
              <a:rPr b="0" i="1" lang="en-US" sz="1300" spc="-1" strike="noStrike">
                <a:solidFill>
                  <a:srgbClr val="ffffff"/>
                </a:solidFill>
                <a:latin typeface="Times New Roman"/>
                <a:ea typeface="Times New Roman"/>
              </a:rPr>
              <a:t>American Psychological Association. </a:t>
            </a:r>
            <a:r>
              <a:rPr b="0" lang="en-US" sz="1300" spc="-1" strike="noStrike">
                <a:solidFill>
                  <a:srgbClr val="ffffff"/>
                </a:solidFill>
                <a:latin typeface="Times New Roman"/>
                <a:ea typeface="Times New Roman"/>
              </a:rPr>
              <a:t>Retrieved from http://www.apa.org/pubs/journals/releases/spq-25-2-65.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Cornell, D.G. (2011). Student Threat Assessment: Virginia Youth Violence Project Curry School of Education University of Virginia Retrieved fromhttp://youthviolence.edschool.virginia.edu/pdf/threatchap.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arrington, D.P., &amp; Ttofi, M.M. (2009). School-Based Programs to Reduce Bullying and Victimization. </a:t>
            </a:r>
            <a:r>
              <a:rPr b="0" i="1" lang="en-US" sz="1300" spc="-1" strike="noStrike">
                <a:solidFill>
                  <a:srgbClr val="ffffff"/>
                </a:solidFill>
                <a:latin typeface="Times New Roman"/>
                <a:ea typeface="Times New Roman"/>
              </a:rPr>
              <a:t>Campbell Systematic Reviews. </a:t>
            </a:r>
            <a:r>
              <a:rPr b="0" lang="en-US" sz="1300" spc="-1" strike="noStrike">
                <a:solidFill>
                  <a:srgbClr val="ffffff"/>
                </a:solidFill>
                <a:latin typeface="Times New Roman"/>
                <a:ea typeface="Times New Roman"/>
              </a:rPr>
              <a:t>Retrieved from http://www.google.com/url?sa=t&amp;rct=j&amp;q=&amp;esrc=s&amp;source=web&amp;cd=1&amp;ved=0CDUQFjAA&amp;url=http%3A%2F%2Fwww.campbellcollaboration.org%2Flib%2Fdownload%2F718%2F&amp;ei=N0vATrjfL-HW0QHx_ZRJ&amp;usg=AFQjCNGOvuMdtj1l5QZsTBcQZ4sEWMnLCA&amp;sig2=0Uw4GBjkg5SbUFTuC8gRdA</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ekkes, M., Pijpers, F.I.M., &amp; Verloove-Vanhorick, S. P. (2005). Bullying: Who does what, when and where? Involvement of children, teachers and parents in bullying behavior. </a:t>
            </a:r>
            <a:r>
              <a:rPr b="0" i="1" lang="en-US" sz="1300" spc="-1" strike="noStrike">
                <a:solidFill>
                  <a:srgbClr val="ffffff"/>
                </a:solidFill>
                <a:latin typeface="Times New Roman"/>
                <a:ea typeface="Times New Roman"/>
              </a:rPr>
              <a:t>Health Education Research. </a:t>
            </a:r>
            <a:r>
              <a:rPr b="0" lang="en-US" sz="1300" spc="-1" strike="noStrike">
                <a:solidFill>
                  <a:srgbClr val="ffffff"/>
                </a:solidFill>
                <a:latin typeface="Times New Roman"/>
                <a:ea typeface="Times New Roman"/>
              </a:rPr>
              <a:t>Retrieved from http://her.oxfordjournals.org/content/20/1/81.full.pdf+html</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erguson, C.J., San Miguel, C., &amp; Kilburn, J.C. Jr (2007). The Effectiveness of School-Based </a:t>
            </a:r>
            <a:r>
              <a:rPr b="0" lang="en-US" sz="1300" spc="-1" strike="noStrike">
                <a:solidFill>
                  <a:srgbClr val="ffffff"/>
                </a:solidFill>
                <a:latin typeface="Times New Roman"/>
                <a:ea typeface="Times New Roman"/>
              </a:rPr>
              <a:t>	</a:t>
            </a:r>
            <a:r>
              <a:rPr b="0" lang="en-US" sz="1300" spc="-1" strike="noStrike">
                <a:solidFill>
                  <a:srgbClr val="ffffff"/>
                </a:solidFill>
                <a:latin typeface="Times New Roman"/>
                <a:ea typeface="Times New Roman"/>
              </a:rPr>
              <a:t>Anti-Bullying Programs: A Meta-Analytic Review. </a:t>
            </a:r>
            <a:r>
              <a:rPr b="0" i="1" lang="en-US" sz="1300" spc="-1" strike="noStrike">
                <a:solidFill>
                  <a:srgbClr val="ffffff"/>
                </a:solidFill>
                <a:latin typeface="Times New Roman"/>
                <a:ea typeface="Times New Roman"/>
              </a:rPr>
              <a:t>Georgia State University Criminal Justice Review. </a:t>
            </a:r>
            <a:r>
              <a:rPr b="0" lang="en-US" sz="1300" spc="-1" strike="noStrike">
                <a:solidFill>
                  <a:srgbClr val="ffffff"/>
                </a:solidFill>
                <a:latin typeface="Times New Roman"/>
                <a:ea typeface="Times New Roman"/>
              </a:rPr>
              <a:t>Retrieved from http://www.tamiu.edu/~CFERGUSON/bully.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Finger, L.R., Craven, R.G., Marsh, H.W., &amp; Parada, R.H. (2004). Characteristics of Effective Anti-Bullying Interventions: What Research Says.</a:t>
            </a:r>
            <a:r>
              <a:rPr b="1" lang="en-US" sz="1300" spc="-1" strike="noStrike">
                <a:solidFill>
                  <a:srgbClr val="ffffff"/>
                </a:solidFill>
                <a:latin typeface="Times New Roman"/>
                <a:ea typeface="Times New Roman"/>
              </a:rPr>
              <a:t> </a:t>
            </a:r>
            <a:r>
              <a:rPr b="0" i="1" lang="en-US" sz="1300" spc="-1" strike="noStrike">
                <a:solidFill>
                  <a:srgbClr val="ffffff"/>
                </a:solidFill>
                <a:latin typeface="Times New Roman"/>
                <a:ea typeface="Times New Roman"/>
              </a:rPr>
              <a:t>SELF Research Centre University of Western Sydney, Australia</a:t>
            </a:r>
            <a:r>
              <a:rPr b="1" i="1" lang="en-US" sz="1300" spc="-1" strike="noStrike">
                <a:solidFill>
                  <a:srgbClr val="ffffff"/>
                </a:solidFill>
                <a:latin typeface="Times New Roman"/>
                <a:ea typeface="Times New Roman"/>
              </a:rPr>
              <a:t>. </a:t>
            </a:r>
            <a:r>
              <a:rPr b="0" lang="en-US" sz="1300" spc="-1" strike="noStrike">
                <a:solidFill>
                  <a:srgbClr val="ffffff"/>
                </a:solidFill>
                <a:latin typeface="Times New Roman"/>
                <a:ea typeface="Times New Roman"/>
              </a:rPr>
              <a:t>Retrieved from http://www.aare.edu.au/05pap/fin05420.pdf</a:t>
            </a:r>
            <a:endParaRPr b="0" lang="en-US" sz="13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152280"/>
            <a:ext cx="8242560" cy="1262160"/>
          </a:xfrm>
          <a:prstGeom prst="rect">
            <a:avLst/>
          </a:prstGeom>
          <a:ln w="0">
            <a:noFill/>
          </a:ln>
        </p:spPr>
      </p:pic>
      <p:sp>
        <p:nvSpPr>
          <p:cNvPr id="337" name=""/>
          <p:cNvSpPr txBox="1"/>
          <p:nvPr/>
        </p:nvSpPr>
        <p:spPr>
          <a:xfrm>
            <a:off x="380880" y="1523520"/>
            <a:ext cx="8229600" cy="533412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Good, C.P.,  McIntosh, K., &amp; Geitz, C. (2011). Integrating Bullying Prevention Into School-Wide Positive Behavior Support. </a:t>
            </a:r>
            <a:r>
              <a:rPr b="0" i="1" lang="en-US" sz="1200" spc="-1" strike="noStrike">
                <a:solidFill>
                  <a:srgbClr val="ffffff"/>
                </a:solidFill>
                <a:latin typeface="Times New Roman"/>
                <a:ea typeface="Times New Roman"/>
              </a:rPr>
              <a:t>Teaching Exceptional Children v. 44 no. 1.</a:t>
            </a:r>
            <a:r>
              <a:rPr b="0" lang="en-US" sz="1200" spc="-1" strike="noStrike">
                <a:solidFill>
                  <a:srgbClr val="ffffff"/>
                </a:solidFill>
                <a:latin typeface="Times New Roman"/>
                <a:ea typeface="Times New Roman"/>
              </a:rPr>
              <a:t>Retrieved from http://njbullying.org/documents/BullyingPosBehSupports.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ll, H.C., &amp; Sewell, D.T.(2003). Teachers’ Attitudes toward Character Education and Inclusion in Family and Consumer Science Education Curriculum.  J</a:t>
            </a:r>
            <a:r>
              <a:rPr b="0" i="1" lang="en-US" sz="1200" spc="-1" strike="noStrike">
                <a:solidFill>
                  <a:srgbClr val="ffffff"/>
                </a:solidFill>
                <a:latin typeface="Times New Roman"/>
                <a:ea typeface="Times New Roman"/>
              </a:rPr>
              <a:t>ournal of Family and Consumer Sciences Education, Vol. 21, No. 1</a:t>
            </a:r>
            <a:r>
              <a:rPr b="0" lang="en-US" sz="1200" spc="-1" strike="noStrike">
                <a:solidFill>
                  <a:srgbClr val="ffffff"/>
                </a:solidFill>
                <a:latin typeface="Times New Roman"/>
                <a:ea typeface="Times New Roman"/>
              </a:rPr>
              <a:t>. Retrieved from http://www.natefacs.org/JFCSE/v21no1/v21no1Sewell.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induja, S. &amp; Patchin, J. W. (2010). Bullying, Cyber bullying, and Suicide. </a:t>
            </a:r>
            <a:r>
              <a:rPr b="0" i="1" lang="en-US" sz="1200" spc="-1" strike="noStrike">
                <a:solidFill>
                  <a:srgbClr val="ffffff"/>
                </a:solidFill>
                <a:latin typeface="Times New Roman"/>
                <a:ea typeface="Times New Roman"/>
              </a:rPr>
              <a:t>Archives of Suicide Research, 14(3), 206‐221. </a:t>
            </a:r>
            <a:r>
              <a:rPr b="0" lang="en-US" sz="1200" spc="-1" strike="noStrike">
                <a:solidFill>
                  <a:srgbClr val="ffffff"/>
                </a:solidFill>
                <a:latin typeface="Times New Roman"/>
                <a:ea typeface="Times New Roman"/>
              </a:rPr>
              <a:t>Retrieved from http://www.cyberbullying.us/cyberbullying_and_suicide_research_fact_sheet.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mber, S &amp; Nation, M. (2003). Bullying Among Children and Youth. </a:t>
            </a:r>
            <a:r>
              <a:rPr b="0" i="1" lang="en-US" sz="1200" spc="-1" strike="noStrike">
                <a:solidFill>
                  <a:srgbClr val="ffffff"/>
                </a:solidFill>
                <a:latin typeface="Times New Roman"/>
                <a:ea typeface="Times New Roman"/>
              </a:rPr>
              <a:t>Office of Juvenile Justice and Delinquency Prevention. </a:t>
            </a:r>
            <a:r>
              <a:rPr b="0" lang="en-US" sz="1200" spc="-1" strike="noStrike">
                <a:solidFill>
                  <a:srgbClr val="ffffff"/>
                </a:solidFill>
                <a:latin typeface="Times New Roman"/>
                <a:ea typeface="Times New Roman"/>
              </a:rPr>
              <a:t>Retrieved from http://www.ojjdp.gov/jjbulletin/9804/bullying2.html</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ombardi, Emily (2010). Character Education: Integration of an Ancient Theory. </a:t>
            </a:r>
            <a:r>
              <a:rPr b="0" i="1" lang="en-US" sz="1200" spc="-1" strike="noStrike">
                <a:solidFill>
                  <a:srgbClr val="ffffff"/>
                </a:solidFill>
                <a:latin typeface="Times New Roman"/>
                <a:ea typeface="Times New Roman"/>
              </a:rPr>
              <a:t>ESSAI: Vol. 7, Article 32.</a:t>
            </a:r>
            <a:r>
              <a:rPr b="0" lang="en-US" sz="1200" spc="-1" strike="noStrike">
                <a:solidFill>
                  <a:srgbClr val="ffffff"/>
                </a:solidFill>
                <a:latin typeface="Times New Roman"/>
                <a:ea typeface="Times New Roman"/>
              </a:rPr>
              <a:t> Retrieved from http://dc.cod.edu/cgi/viewcontent.cgi?article=1127&amp;context=essai&amp;sei-redir=1&amp;referer=http%3A%2F%2Fwww.google.com%2Furl%3Fsa%3Dt%26source%3Dweb%26cd%3D1%26ved%3D0CCAQFjAA%26url%3Dhttp%253A%252F%252Fdc.cod.edu%252Fcgi%252Fviewcontent.cgi%253Farticle%253D1127%2526context%253Dessai%26rct%3Dj%26q%3DLombardi%252C%2520Emily%252C%25202010%2520character%2520education%26ei%3DsfWUTsmFCqT10gG5qa3ABw%26usg%3DAFQjCNHeH1s0UPH2T3qtZn6uDgsUKUaleQ%26sig2%3Dyx5xgfdSUjq8QzPzxigkpA#search=%22Lombardi%2C%20Emily%2C%202010%20character%20education%22</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nsel, T., Overpeck, M., Phila, R.S., Ruan, W.J., Morton-Simons, B. &amp; Scheidt, P. (2001). Bullying Behaviors Among US Youth</a:t>
            </a:r>
            <a:r>
              <a:rPr b="1"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Prevalence and Association With Psychosocial Adjustment</a:t>
            </a:r>
            <a:r>
              <a:rPr b="0" i="1" lang="en-US" sz="1200" spc="-1" strike="noStrike">
                <a:solidFill>
                  <a:srgbClr val="ffffff"/>
                </a:solidFill>
                <a:latin typeface="Times New Roman"/>
                <a:ea typeface="Times New Roman"/>
              </a:rPr>
              <a:t>. American Medical Association, </a:t>
            </a:r>
            <a:r>
              <a:rPr b="0" lang="en-US" sz="1200" spc="-1" strike="noStrike">
                <a:solidFill>
                  <a:srgbClr val="ffffff"/>
                </a:solidFill>
                <a:latin typeface="Times New Roman"/>
                <a:ea typeface="Times New Roman"/>
              </a:rPr>
              <a:t>Vol 285, No. 16. Retrieved from http://jama.ama-assn.org/content/285/16/2094.full.pdf+html</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rvaez, D. &amp; Lapsley, D.K. (2006). Teaching Moral Character: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wo Strategies for Teacher Education. </a:t>
            </a:r>
            <a:r>
              <a:rPr b="0" i="1" lang="en-US" sz="1200" spc="-1" strike="noStrike">
                <a:solidFill>
                  <a:srgbClr val="ffffff"/>
                </a:solidFill>
                <a:latin typeface="Times New Roman"/>
                <a:ea typeface="Times New Roman"/>
              </a:rPr>
              <a:t>Center for Ethical Education University of Notre Dame. </a:t>
            </a:r>
            <a:r>
              <a:rPr b="0" lang="en-US" sz="1200" spc="-1" strike="noStrike">
                <a:solidFill>
                  <a:srgbClr val="ffffff"/>
                </a:solidFill>
                <a:latin typeface="Times New Roman"/>
                <a:ea typeface="Times New Roman"/>
              </a:rPr>
              <a:t>Retrieved from   http://www.nd.edu/~dnarvaez/documents/NarvaezLapsleyTeacher.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ational Center for Educational Statistics and Bureau of Justice Statistics (2009). Indicators of School Crime and Safety. Retrieved from </a:t>
            </a:r>
            <a:r>
              <a:rPr b="0" lang="en-US" sz="1200" spc="-1" strike="noStrike" u="sng">
                <a:solidFill>
                  <a:srgbClr val="ffffff"/>
                </a:solidFill>
                <a:uFillTx/>
                <a:latin typeface="Times New Roman"/>
                <a:ea typeface="Times New Roman"/>
              </a:rPr>
              <a:t>http://bjs.ojp.usdoj.gov/content/pub/pdf/iscs09.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0720" y="152280"/>
            <a:ext cx="8242560" cy="1262160"/>
          </a:xfrm>
          <a:prstGeom prst="rect">
            <a:avLst/>
          </a:prstGeom>
          <a:ln w="0">
            <a:noFill/>
          </a:ln>
        </p:spPr>
      </p:pic>
      <p:sp>
        <p:nvSpPr>
          <p:cNvPr id="339" name=""/>
          <p:cNvSpPr txBox="1"/>
          <p:nvPr/>
        </p:nvSpPr>
        <p:spPr>
          <a:xfrm>
            <a:off x="152280" y="1523520"/>
            <a:ext cx="9144000" cy="4854600"/>
          </a:xfrm>
          <a:prstGeom prst="rect">
            <a:avLst/>
          </a:prstGeom>
          <a:noFill/>
          <a:ln w="0">
            <a:noFill/>
          </a:ln>
        </p:spPr>
        <p:txBody>
          <a:bodyPr lIns="54720" tIns="9144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rson, A.E., Moiduddin, E., Hague-Angus, M., &amp; Malone, L.M. (2009).</a:t>
            </a:r>
            <a:r>
              <a:rPr b="1"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Survey of Outcomes Measurement in Research on Character Education Programs. </a:t>
            </a:r>
            <a:r>
              <a:rPr b="0" i="1" lang="en-US" sz="1200" spc="-1" strike="noStrike">
                <a:solidFill>
                  <a:srgbClr val="ffffff"/>
                </a:solidFill>
                <a:latin typeface="Times New Roman"/>
                <a:ea typeface="Times New Roman"/>
              </a:rPr>
              <a:t>United States Department of Education. </a:t>
            </a:r>
            <a:r>
              <a:rPr b="0" lang="en-US" sz="1200" spc="-1" strike="noStrike">
                <a:solidFill>
                  <a:srgbClr val="ffffff"/>
                </a:solidFill>
                <a:latin typeface="Times New Roman"/>
                <a:ea typeface="Times New Roman"/>
              </a:rPr>
              <a:t>Retrieved from </a:t>
            </a:r>
            <a:r>
              <a:rPr b="0" lang="en-US" sz="1200" spc="-1" strike="noStrike" u="sng">
                <a:solidFill>
                  <a:srgbClr val="ffffff"/>
                </a:solidFill>
                <a:uFillTx/>
                <a:latin typeface="Times New Roman"/>
                <a:ea typeface="Times New Roman"/>
              </a:rPr>
              <a:t>http://www.servicelearning.org/filemanager/download/9060_survey_outcomes_measurement.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terson, J.S., &amp; Ray, K.E. (2006). Bullying and the Gifted: Victims, Perpetrators, Prevalence, and Effects. </a:t>
            </a:r>
            <a:r>
              <a:rPr b="0" i="1" lang="en-US" sz="1200" spc="-1" strike="noStrike">
                <a:solidFill>
                  <a:srgbClr val="ffffff"/>
                </a:solidFill>
                <a:latin typeface="Times New Roman"/>
                <a:ea typeface="Times New Roman"/>
              </a:rPr>
              <a:t>Purdue University. </a:t>
            </a:r>
            <a:r>
              <a:rPr b="0" lang="en-US" sz="1200" spc="-1" strike="noStrike">
                <a:solidFill>
                  <a:srgbClr val="ffffff"/>
                </a:solidFill>
                <a:latin typeface="Times New Roman"/>
                <a:ea typeface="Times New Roman"/>
              </a:rPr>
              <a:t>Retrieved from http://www.nagc.org/uploadedFiles/GCQ/GCQ_Articles/Bullying%20-%20Spring%202006.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askauskas, J., &amp; Modell, S. (2011). Modifying Anti-Bullying Programs to Include Students With Disabilities. </a:t>
            </a:r>
            <a:r>
              <a:rPr b="0" i="1" lang="en-US" sz="1200" spc="-1" strike="noStrike">
                <a:solidFill>
                  <a:srgbClr val="ffffff"/>
                </a:solidFill>
                <a:latin typeface="Times New Roman"/>
                <a:ea typeface="Times New Roman"/>
              </a:rPr>
              <a:t>Teaching Exceptional Children </a:t>
            </a:r>
            <a:r>
              <a:rPr b="0" lang="en-US" sz="1200" spc="-1" strike="noStrike">
                <a:solidFill>
                  <a:srgbClr val="ffffff"/>
                </a:solidFill>
                <a:latin typeface="Times New Roman"/>
                <a:ea typeface="Times New Roman"/>
              </a:rPr>
              <a:t>v</a:t>
            </a:r>
            <a:r>
              <a:rPr b="0" i="1" lang="en-US" sz="1200" spc="-1" strike="noStrike">
                <a:solidFill>
                  <a:srgbClr val="ffffff"/>
                </a:solidFill>
                <a:latin typeface="Times New Roman"/>
                <a:ea typeface="Times New Roman"/>
              </a:rPr>
              <a:t>.44 no. 1. </a:t>
            </a:r>
            <a:r>
              <a:rPr b="0" lang="en-US" sz="1200" spc="-1" strike="noStrike">
                <a:solidFill>
                  <a:srgbClr val="ffffff"/>
                </a:solidFill>
                <a:latin typeface="Times New Roman"/>
                <a:ea typeface="Times New Roman"/>
              </a:rPr>
              <a:t>Retrieved from </a:t>
            </a:r>
            <a:r>
              <a:rPr b="0" lang="en-US" sz="1200" spc="-1" strike="noStrike" u="sng">
                <a:solidFill>
                  <a:srgbClr val="ffffff"/>
                </a:solidFill>
                <a:uFillTx/>
                <a:latin typeface="Times New Roman"/>
                <a:ea typeface="Times New Roman"/>
              </a:rPr>
              <a:t>http://vnweb.hwwilsonweb.com.ez-</a:t>
            </a:r>
            <a:r>
              <a:rPr b="0" lang="en-US" sz="1200" spc="-1" strike="noStrike">
                <a:solidFill>
                  <a:srgbClr val="ffffff"/>
                </a:solidFill>
                <a:latin typeface="Times New Roman"/>
                <a:ea typeface="Times New Roman"/>
              </a:rPr>
              <a:t>proxy.brooklyn.cuny.edu:2048/hww/results/external_link_maincontentframe.jhtml?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vers, I., Poteat, V. Noret, N., &amp; Ashurst, N. (2009). Observing Bullying at School: The Mental Health Implications of Witness Status. </a:t>
            </a:r>
            <a:r>
              <a:rPr b="0" i="1" lang="en-US" sz="1200" spc="-1" strike="noStrike">
                <a:solidFill>
                  <a:srgbClr val="ffffff"/>
                </a:solidFill>
                <a:latin typeface="Times New Roman"/>
                <a:ea typeface="Times New Roman"/>
              </a:rPr>
              <a:t>American Psychological Association. </a:t>
            </a:r>
            <a:r>
              <a:rPr b="0" lang="en-US" sz="1200" spc="-1" strike="noStrike">
                <a:solidFill>
                  <a:srgbClr val="ffffff"/>
                </a:solidFill>
                <a:latin typeface="Times New Roman"/>
                <a:ea typeface="Times New Roman"/>
              </a:rPr>
              <a:t>Retrieved from http://www.apa.org/pubs/journals/releases/spq-24-4-211.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ylvester, R. (2011). Teacher as Bully: Knowingly and Unintentionally Harming Students. </a:t>
            </a:r>
            <a:r>
              <a:rPr b="0" i="1" lang="en-US" sz="1200" spc="-1" strike="noStrike">
                <a:solidFill>
                  <a:srgbClr val="ffffff"/>
                </a:solidFill>
                <a:latin typeface="Times New Roman"/>
                <a:ea typeface="Times New Roman"/>
              </a:rPr>
              <a:t>The Delta Kappa Gamma Bulletin v. 77 no. 2. </a:t>
            </a:r>
            <a:r>
              <a:rPr b="0" lang="en-US" sz="1200" spc="-1" strike="noStrike">
                <a:solidFill>
                  <a:srgbClr val="ffffff"/>
                </a:solidFill>
                <a:latin typeface="Times New Roman"/>
                <a:ea typeface="Times New Roman"/>
              </a:rPr>
              <a:t>Retrieved from http://vnweb.hwwilsonweb.com.ez-proxy.brooklyn.cuny.edu:2048/hww/results/external_link_maincontentframe.jh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illiams, K.R., &amp; Guerra, N.G. (2007). Prevalence and Predictors of Internet Bullying. </a:t>
            </a:r>
            <a:r>
              <a:rPr b="0" i="1" lang="en-US" sz="1200" spc="-1" strike="noStrike">
                <a:solidFill>
                  <a:srgbClr val="ffffff"/>
                </a:solidFill>
                <a:latin typeface="Times New Roman"/>
                <a:ea typeface="Times New Roman"/>
              </a:rPr>
              <a:t>Journal of Adolescent Health, 41</a:t>
            </a:r>
            <a:r>
              <a:rPr b="0" lang="en-US" sz="1200" spc="-1" strike="noStrike">
                <a:solidFill>
                  <a:srgbClr val="ffffff"/>
                </a:solidFill>
                <a:latin typeface="Times New Roman"/>
                <a:ea typeface="Times New Roman"/>
              </a:rPr>
              <a:t>. Retrieved from http://www.jahonline.org/webfiles/images/journals/jah/zaq11207000S14.pdf</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illiams, K., Chambers, M., Logan, S., &amp; Robinson, D. (1996). Association of common health symptoms with bullying in primary school children. </a:t>
            </a:r>
            <a:r>
              <a:rPr b="0" i="1" lang="en-US" sz="1200" spc="-1" strike="noStrike">
                <a:solidFill>
                  <a:srgbClr val="ffffff"/>
                </a:solidFill>
                <a:latin typeface="Times New Roman"/>
                <a:ea typeface="Times New Roman"/>
              </a:rPr>
              <a:t>British Medical Journal</a:t>
            </a:r>
            <a:r>
              <a:rPr b="0" lang="en-US" sz="1200" spc="-1" strike="noStrike">
                <a:solidFill>
                  <a:srgbClr val="ffffff"/>
                </a:solidFill>
                <a:latin typeface="Times New Roman"/>
                <a:ea typeface="Times New Roman"/>
              </a:rPr>
              <a:t>, </a:t>
            </a:r>
            <a:r>
              <a:rPr b="0" i="1" lang="en-US" sz="1200" spc="-1" strike="noStrike">
                <a:solidFill>
                  <a:srgbClr val="ffffff"/>
                </a:solidFill>
                <a:latin typeface="Times New Roman"/>
                <a:ea typeface="Times New Roman"/>
              </a:rPr>
              <a:t>3(13) 17-</a:t>
            </a:r>
            <a:r>
              <a:rPr b="0" i="1" lang="en-US" sz="1200" spc="-1" strike="noStrike">
                <a:solidFill>
                  <a:srgbClr val="ffffff"/>
                </a:solidFill>
                <a:latin typeface="Times New Roman"/>
                <a:ea typeface="Times New Roman"/>
              </a:rPr>
              <a:t>	</a:t>
            </a:r>
            <a:r>
              <a:rPr b="0" i="1" lang="en-US" sz="1200" spc="-1" strike="noStrike">
                <a:solidFill>
                  <a:srgbClr val="ffffff"/>
                </a:solidFill>
                <a:latin typeface="Times New Roman"/>
                <a:ea typeface="Times New Roman"/>
              </a:rPr>
              <a:t>19</a:t>
            </a:r>
            <a:r>
              <a:rPr b="0" lang="en-US" sz="1200" spc="-1" strike="noStrike">
                <a:solidFill>
                  <a:srgbClr val="ffffff"/>
                </a:solidFill>
                <a:latin typeface="Times New Roman"/>
                <a:ea typeface="Times New Roman"/>
              </a:rPr>
              <a:t>. Retrieved from http://www.ncbi.nlm.nih.gov/pmc/articles/PMC2351438/</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Yerger, William ; Gehret, Cliff. (2011) Understanding and Dealing With Bullying in Schools. </a:t>
            </a:r>
            <a:r>
              <a:rPr b="0" i="1" lang="en-US" sz="1200" spc="-1" strike="noStrike">
                <a:solidFill>
                  <a:srgbClr val="ffffff"/>
                </a:solidFill>
                <a:latin typeface="Times New Roman"/>
                <a:ea typeface="Times New Roman"/>
              </a:rPr>
              <a:t>The Educational Forum, 75: 315-26. </a:t>
            </a:r>
            <a:r>
              <a:rPr b="0" lang="en-US" sz="1200" spc="-1" strike="noStrike">
                <a:solidFill>
                  <a:srgbClr val="ffffff"/>
                </a:solidFill>
                <a:latin typeface="Times New Roman"/>
                <a:ea typeface="Times New Roman"/>
              </a:rPr>
              <a:t>Retrieved from: http://vnweb.hwwilsonweb.com.ez-proxy.brooklyn.cuny.edu:2048/hww/results/external_link_maincontentframe.jhtm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Young, Terrell A; Ward, Barbara A. (2011) Bullies in Recent Books for Children and Young Adults. </a:t>
            </a:r>
            <a:r>
              <a:rPr b="0" i="1" lang="en-US" sz="1200" spc="-1" strike="noStrike">
                <a:solidFill>
                  <a:srgbClr val="ffffff"/>
                </a:solidFill>
                <a:latin typeface="Times New Roman"/>
                <a:ea typeface="Times New Roman"/>
              </a:rPr>
              <a:t>Reading Horizons v. 51 no. 1. </a:t>
            </a:r>
            <a:r>
              <a:rPr b="0" lang="en-US" sz="1200" spc="-1" strike="noStrike">
                <a:solidFill>
                  <a:srgbClr val="ffffff"/>
                </a:solidFill>
                <a:latin typeface="Times New Roman"/>
                <a:ea typeface="Times New Roman"/>
              </a:rPr>
              <a:t>Retrieved from: http://vnweb.hwwilsonweb.com.ez-proxy.brooklyn.cuny.edu:2048/hww/results/external_link_maincontentframe.jhtm l?_DARGS=/hww/results/results_common.jhtml.44</a:t>
            </a:r>
            <a:endParaRPr b="0" lang="en-US" sz="1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Introduction: (Slide 3)</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Statement of Problem (Slide 4)</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Review of Related Literature (Slide 5-8)</a:t>
            </a:r>
            <a:endParaRPr b="0" lang="en-US" sz="2700" spc="-1" strike="noStrike">
              <a:solidFill>
                <a:srgbClr val="000000"/>
              </a:solidFill>
              <a:latin typeface="Corbel"/>
            </a:endParaRPr>
          </a:p>
          <a:p>
            <a:pPr lvl="3" marL="1203840" indent="-180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 Pros, Theorists/Practioners, Current Interventions</a:t>
            </a:r>
            <a:endParaRPr b="0" lang="en-US" sz="1700" spc="-1" strike="noStrike">
              <a:solidFill>
                <a:srgbClr val="000000"/>
              </a:solidFill>
              <a:latin typeface="Corbel"/>
            </a:endParaRPr>
          </a:p>
          <a:p>
            <a:pPr lvl="3" marL="1203840" indent="-180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Statement of the Hypothesis (Slide 9)</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Method: (Slide 10)</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Participants</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endParaRPr b="0" lang="en-US" sz="2700" spc="-1" strike="noStrike">
              <a:solidFill>
                <a:srgbClr val="000000"/>
              </a:solidFill>
              <a:latin typeface="Corbel"/>
            </a:endParaRPr>
          </a:p>
          <a:p>
            <a:pPr marL="433440" indent="-315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Instruments </a:t>
            </a: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3440" indent="-315720">
              <a:lnSpc>
                <a:spcPct val="8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 References (Slide 11-13)</a:t>
            </a:r>
            <a:endParaRPr b="0" lang="en-US" sz="2700" spc="-1" strike="noStrike">
              <a:solidFill>
                <a:srgbClr val="000000"/>
              </a:solidFill>
              <a:latin typeface="Corbel"/>
            </a:endParaRPr>
          </a:p>
          <a:p>
            <a:pPr marL="433440" indent="-315720">
              <a:lnSpc>
                <a:spcPct val="8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151920" y="1447920"/>
            <a:ext cx="8534520" cy="4952880"/>
          </a:xfrm>
          <a:prstGeom prst="rect">
            <a:avLst/>
          </a:prstGeom>
          <a:noFill/>
          <a:ln w="0">
            <a:noFill/>
          </a:ln>
        </p:spPr>
        <p:txBody>
          <a:bodyPr lIns="54720" tIns="91440" anchor="t">
            <a:normAutofit/>
          </a:bodyPr>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ullying has been around for years beyond years, but it has never been taken to the extreme as it has today</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ccording to Berthold &amp; Hoover, Slee, Walker, Ramsey &amp; Gresham, “ targets of bullying may suffer greatly in terms of their social and emotional well-being, become anxious, and depressed, isolate themselves from peer groups, and avoid school for fear of being bullied” (in Integrating Bullying Prevention Into School-wide Positive Behavior Support, p.48)</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ith the help of school-based intervention programs, the frequency of bullying has the ability to be minimized greatly</a:t>
            </a: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any theorists and practioners believe programs have already been put in place to intervene bullying, but too many tragedies are still occurring; so there needs to be more of an effective intervention</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Bullying has and will be a problem in this world if school-based intervention  programs are not effectively put into place</a:t>
            </a: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Schools have not done their best to work towards eliminating this problem because we hear about new tragedies so frequently</a:t>
            </a: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Tragedies include suicides, depression, long and short term health effects</a:t>
            </a:r>
            <a:endParaRPr b="0" lang="en-US" sz="1900" spc="-1" strike="noStrike">
              <a:solidFill>
                <a:srgbClr val="000000"/>
              </a:solidFill>
              <a:latin typeface="Corbel"/>
            </a:endParaRPr>
          </a:p>
          <a:p>
            <a:pPr lv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Unawareness is the main problem</a:t>
            </a:r>
            <a:endParaRPr b="0" lang="en-US" sz="1900" spc="-1" strike="noStrike">
              <a:solidFill>
                <a:srgbClr val="000000"/>
              </a:solidFill>
              <a:latin typeface="Corbel"/>
            </a:endParaRPr>
          </a:p>
          <a:p>
            <a:pPr lv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lvl="1">
              <a:lnSpc>
                <a:spcPct val="110000"/>
              </a:lnSpc>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According to Limber &amp; Nation 2003, “not only does bullying harm both its intended victims and its perpetrators, it also may affect the climate of schools and, indirectly, the ability of all students to learn to the best of their abilities.” (p.1)  </a:t>
            </a:r>
            <a:endParaRPr b="0" lang="en-US" sz="1900" spc="-1" strike="noStrike">
              <a:solidFill>
                <a:srgbClr val="000000"/>
              </a:solidFill>
              <a:latin typeface="Corbel"/>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  </a:t>
            </a:r>
            <a:endParaRPr b="0" lang="en-US" sz="17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228240" y="1523520"/>
            <a:ext cx="8458200" cy="5334120"/>
          </a:xfrm>
          <a:prstGeom prst="rect">
            <a:avLst/>
          </a:prstGeom>
          <a:noFill/>
          <a:ln w="0">
            <a:noFill/>
          </a:ln>
        </p:spPr>
        <p:txBody>
          <a:bodyPr lIns="547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a:t>
            </a:r>
            <a:r>
              <a:rPr b="0" lang="en-US" sz="1000" spc="-1" strike="noStrike">
                <a:solidFill>
                  <a:srgbClr val="ffffff"/>
                </a:solidFill>
                <a:latin typeface="Times New Roman"/>
                <a:ea typeface="Times New Roman"/>
              </a:rPr>
              <a:t>v. </a:t>
            </a:r>
            <a:r>
              <a:rPr b="0" i="1" lang="en-US" sz="1000" spc="-1" strike="noStrike">
                <a:solidFill>
                  <a:srgbClr val="ffffff"/>
                </a:solidFill>
                <a:latin typeface="Times New Roman"/>
                <a:ea typeface="Times New Roman"/>
              </a:rPr>
              <a:t>44 no. 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Yerger, William ; Gehret, Cliff. (2011) Understanding and Dealing With Bullying in Schools. </a:t>
            </a:r>
            <a:r>
              <a:rPr b="0" i="1" lang="en-US" sz="1000" spc="-1" strike="noStrike">
                <a:solidFill>
                  <a:srgbClr val="ffffff"/>
                </a:solidFill>
                <a:latin typeface="Times New Roman"/>
                <a:ea typeface="Times New Roman"/>
              </a:rPr>
              <a:t>The Educational Forum, 75: 315-26.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vnweb.hwwilsonweb.com.ez-</a:t>
            </a:r>
            <a:r>
              <a:rPr b="0" lang="en-US" sz="1000" spc="-1" strike="noStrike">
                <a:solidFill>
                  <a:srgbClr val="ffffff"/>
                </a:solidFill>
                <a:latin typeface="Times New Roman"/>
                <a:ea typeface="Times New Roman"/>
              </a:rPr>
              <a:t>proxy.brooklyn.cuny.edu:2048/hww/results/external_link_maincontentframe.jhtml?_DARGS=/hww/results/results_common.jhtml.44 </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Young, Terrell A; Ward, Barbara A. (2011) Bullies in Recent Books for Children and Young  Adults. </a:t>
            </a:r>
            <a:r>
              <a:rPr b="0" i="1" lang="en-US" sz="1000" spc="-1" strike="noStrike">
                <a:solidFill>
                  <a:srgbClr val="ffffff"/>
                </a:solidFill>
                <a:latin typeface="Times New Roman"/>
                <a:ea typeface="Times New Roman"/>
              </a:rPr>
              <a:t>Reading Horizons v. 51 no. 1.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vnweb.hwwilsonweb.com.ez-</a:t>
            </a:r>
            <a:r>
              <a:rPr b="0" lang="en-US" sz="1000" spc="-1" strike="noStrike">
                <a:solidFill>
                  <a:srgbClr val="ffffff"/>
                </a:solidFill>
                <a:latin typeface="Times New Roman"/>
                <a:ea typeface="Times New Roman"/>
              </a:rPr>
              <a:t>proxy.brooklyn.cuny.edu:2048/hww/results/external_link_maincontentframe.jhtm l?_DARGS=/hww/results/results_common.jhtml.44</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inger, L.R., Craven, R.G., Marsh, H.W., &amp; Parada, R.H. (2004). Characteristics of Effective Anti-Bullying Interventions: What Research Says. </a:t>
            </a:r>
            <a:r>
              <a:rPr b="0" i="1" lang="en-US" sz="1000" spc="-1" strike="noStrike">
                <a:solidFill>
                  <a:srgbClr val="ffffff"/>
                </a:solidFill>
                <a:latin typeface="Times New Roman"/>
                <a:ea typeface="Times New Roman"/>
              </a:rPr>
              <a:t>SELF Research Centre University of Western Sydney, Australia. </a:t>
            </a:r>
            <a:r>
              <a:rPr b="0" lang="en-US" sz="1000" spc="-1" strike="noStrike">
                <a:solidFill>
                  <a:srgbClr val="ffffff"/>
                </a:solidFill>
                <a:latin typeface="Times New Roman"/>
                <a:ea typeface="Times New Roman"/>
              </a:rPr>
              <a:t>Retrieved from http://www.aare.edu.au/05pap/fin05420.pdf</a:t>
            </a: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Review of Literature</a:t>
            </a:r>
            <a:r>
              <a:rPr b="0" lang="en-US" sz="1600" spc="-1" strike="noStrike">
                <a:solidFill>
                  <a:srgbClr val="ffffff"/>
                </a:solidFill>
                <a:latin typeface="Corbel"/>
              </a:rPr>
              <a:t>: </a:t>
            </a:r>
            <a:endParaRPr b="0" lang="en-US" sz="16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ll of these sources include pros of intervention and how it will benefit schools to prevent bullying. </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 the article “Integrating Bullying Prevention into School-wide Positive Behavior Support”, Simonsen mentions how consequences for bullying needs to be more severe. In addition, he mentions how students respond most to intervention with integrity</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 the article “Understanding and Dealing with Bullying in Schools”, Smokowski &amp; Kopasz mention strategies that were proven to transform the school climate like reaching out to victims, set clear consequences and enforce them, supervise students during breaks, engage students in activities related to bullying and create community action teams. </a:t>
            </a:r>
            <a:endParaRPr b="0" lang="en-US" sz="1400" spc="-1" strike="noStrike">
              <a:solidFill>
                <a:srgbClr val="000000"/>
              </a:solidFill>
              <a:latin typeface="Corbel"/>
            </a:endParaRPr>
          </a:p>
          <a:p>
            <a:pPr marL="438120" indent="-318960">
              <a:lnSpc>
                <a:spcPct val="9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Young &amp; Ward talk about incorporating literature into teaching anti-bullying </a:t>
            </a:r>
            <a:endParaRPr b="0" lang="en-US" sz="1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380880" y="1447920"/>
            <a:ext cx="8229600" cy="50832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a:t>
            </a:r>
            <a:r>
              <a:rPr b="0" lang="en-US" sz="1000" spc="-1" strike="noStrike">
                <a:solidFill>
                  <a:srgbClr val="ffffff"/>
                </a:solidFill>
                <a:latin typeface="Times New Roman"/>
                <a:ea typeface="Times New Roman"/>
              </a:rPr>
              <a:t>v. </a:t>
            </a:r>
            <a:r>
              <a:rPr b="0" i="1" lang="en-US" sz="1000" spc="-1" strike="noStrike">
                <a:solidFill>
                  <a:srgbClr val="ffffff"/>
                </a:solidFill>
                <a:latin typeface="Times New Roman"/>
                <a:ea typeface="Times New Roman"/>
              </a:rPr>
              <a:t>44 no. 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mber, S &amp; Nation, M. (2003). Bullying Among Children and Youth. </a:t>
            </a:r>
            <a:r>
              <a:rPr b="0" i="1" lang="en-US" sz="1000" spc="-1" strike="noStrike">
                <a:solidFill>
                  <a:srgbClr val="ffffff"/>
                </a:solidFill>
                <a:latin typeface="Times New Roman"/>
                <a:ea typeface="Times New Roman"/>
              </a:rPr>
              <a:t>Office of  Juvenile Justice and Delinquency Prevention</a:t>
            </a:r>
            <a:r>
              <a:rPr b="0" lang="en-US" sz="1000" spc="-1" strike="noStrike">
                <a:solidFill>
                  <a:srgbClr val="ffffff"/>
                </a:solidFill>
                <a:latin typeface="Times New Roman"/>
                <a:ea typeface="Times New Roman"/>
              </a:rPr>
              <a:t>.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ojjdp.gov/jjbulletin/9804/bullying2.html</a:t>
            </a:r>
            <a:r>
              <a:rPr b="0" lang="en-US" sz="1000" spc="-1" strike="noStrike">
                <a:solidFill>
                  <a:srgbClr val="ffffff"/>
                </a:solidFill>
                <a:latin typeface="Corbel"/>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nsel, T., Overpeck, M., Phila, R.S., Ruan, W.J., Morton-Simons, B. &amp; Scheidt, P. (2001). Bullying Behaviors Among US Youth: Prevalence and Association With Psychosocial Adjustment</a:t>
            </a:r>
            <a:r>
              <a:rPr b="0" i="1" lang="en-US" sz="1000" spc="-1" strike="noStrike">
                <a:solidFill>
                  <a:srgbClr val="ffffff"/>
                </a:solidFill>
                <a:latin typeface="Times New Roman"/>
                <a:ea typeface="Times New Roman"/>
              </a:rPr>
              <a:t>. American Medical Association, </a:t>
            </a:r>
            <a:r>
              <a:rPr b="0" lang="en-US" sz="1000" spc="-1" strike="noStrike">
                <a:solidFill>
                  <a:srgbClr val="ffffff"/>
                </a:solidFill>
                <a:latin typeface="Times New Roman"/>
                <a:ea typeface="Times New Roman"/>
              </a:rPr>
              <a:t>Vol 285, No. 16.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jama.ama-assn.org/content/285/16/2094.full.pdf+html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ombardi, Emily (2010). Character Education: Integration of an Ancient Theory. </a:t>
            </a:r>
            <a:r>
              <a:rPr b="0" i="1" lang="en-US" sz="1000" spc="-1" strike="noStrike">
                <a:solidFill>
                  <a:srgbClr val="ffffff"/>
                </a:solidFill>
                <a:latin typeface="Times New Roman"/>
                <a:ea typeface="Times New Roman"/>
              </a:rPr>
              <a:t>ESSAI: Vol. 7, Article 32.</a:t>
            </a:r>
            <a:r>
              <a:rPr b="0" lang="en-US" sz="1000" spc="-1" strike="noStrike">
                <a:solidFill>
                  <a:srgbClr val="ffffff"/>
                </a:solidFill>
                <a:latin typeface="Times New Roman"/>
                <a:ea typeface="Times New Roman"/>
              </a:rPr>
              <a:t> Retrieved from http://dc.cod.edu/cgi/viewcontent.cgi?article=1127&amp;context=essai&amp;sei-redir=1&amp;referer=http%3A%2F%2Fwww.google.com%2Furl%3Fsa%3Dt%26sorce%3Dweb%26cd%3D1%26ved%3D0CCAQFjAA%26url%3Dhttp%253A%252F%252Fdc.cod.edu%252Fcgi%252Fviewcontent.cgi%253Farticle%253D1127%2526context%253Dessai%26rct%3Dj%26q%3DLombardi%252C%2520Emily%252C%25202010%2520character%2520education%26ei%3DsfWUTsmFCqT10gG5qa3ABw%26usg%3DAFQjCNHeH1s0UPH2T3qtZn6uDgsUKUaleQ%26sig2%3Dyx5xgfdSUjq8QzPzxigkpA#search=%22LomUbardi%2C%20Emily%2C%202010%20character%20education%22</a:t>
            </a:r>
            <a:endParaRPr b="0" lang="en-US" sz="1000" spc="-1" strike="noStrike">
              <a:solidFill>
                <a:srgbClr val="000000"/>
              </a:solidFill>
              <a:latin typeface="Corbel"/>
            </a:endParaRPr>
          </a:p>
          <a:p>
            <a:pPr marL="438120" indent="-318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0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Review of Literature:</a:t>
            </a:r>
            <a:endParaRPr b="0" lang="en-US" sz="12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Theorists include Dr. Dan Olweus, Maria Montessori, Susan Limber, Maury Nation &amp; Tonja Nansel that believe anti-bullying programs would decrease bullying in schools</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Olweus believes there are two true preventive approaches to bullying: a) teaching all students the skills needed without bullying b) changing aspects of school culture</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Limber &amp; Nation believe that adopting comprehensive approaches to reduce bullying will change students’ behavior and attitudes giving teachers the willingness to intervene </a:t>
            </a: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Nansel feels that bullying needs serious attention for future research and preventative actions </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Montessori has a character education model that should be incorporated at an early age to instill important values of good character that will decrease bullying behavior</a:t>
            </a: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erguson, C.J., San Miguel, C., &amp; Kilburn, J.C. Jr (2007). The Effectiveness of School-Based Anti-Bullying Programs: A Meta-Analytic Review. </a:t>
            </a:r>
            <a:r>
              <a:rPr b="0" i="1" lang="en-US" sz="1000" spc="-1" strike="noStrike">
                <a:solidFill>
                  <a:srgbClr val="ffffff"/>
                </a:solidFill>
                <a:latin typeface="Times New Roman"/>
                <a:ea typeface="Times New Roman"/>
              </a:rPr>
              <a:t>Georgia State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University Criminal Justice Review. </a:t>
            </a:r>
            <a:r>
              <a:rPr b="0" lang="en-US" sz="1000" spc="-1" strike="noStrike">
                <a:solidFill>
                  <a:srgbClr val="ffffff"/>
                </a:solidFill>
                <a:latin typeface="Times New Roman"/>
                <a:ea typeface="Times New Roman"/>
              </a:rPr>
              <a:t>Retrieved from http://www.tamiu.edu/~CFERGUSON/bully.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ekkes, M., Pijpers, F.I.M., &amp; Verloove-Vanhorick, S. P. (2005). Bullying: Who does what, when and where? Involvement of children, teachers and parents in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bullying behavior. </a:t>
            </a:r>
            <a:r>
              <a:rPr b="0" i="1" lang="en-US" sz="1000" spc="-1" strike="noStrike">
                <a:solidFill>
                  <a:srgbClr val="ffffff"/>
                </a:solidFill>
                <a:latin typeface="Times New Roman"/>
                <a:ea typeface="Times New Roman"/>
              </a:rPr>
              <a:t>Health Education Research. </a:t>
            </a:r>
            <a:r>
              <a:rPr b="0" lang="en-US" sz="1000" spc="-1" strike="noStrike">
                <a:solidFill>
                  <a:srgbClr val="ffffff"/>
                </a:solidFill>
                <a:latin typeface="Times New Roman"/>
                <a:ea typeface="Times New Roman"/>
              </a:rPr>
              <a:t>Retrieved from http://her.oxfordjournals.org/content/20/1/81.full.pdf+htm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mber, S &amp; Nation, M. (2003). Bullying Among Children and Youth. </a:t>
            </a:r>
            <a:r>
              <a:rPr b="0" i="1" lang="en-US" sz="1000" spc="-1" strike="noStrike">
                <a:solidFill>
                  <a:srgbClr val="ffffff"/>
                </a:solidFill>
                <a:latin typeface="Times New Roman"/>
                <a:ea typeface="Times New Roman"/>
              </a:rPr>
              <a:t>Office of  Juvenile Justice and Delinquency Prevention</a:t>
            </a:r>
            <a:r>
              <a:rPr b="0" lang="en-US" sz="1000" spc="-1" strike="noStrike">
                <a:solidFill>
                  <a:srgbClr val="ffffff"/>
                </a:solidFill>
                <a:latin typeface="Times New Roman"/>
                <a:ea typeface="Times New Roman"/>
              </a:rPr>
              <a:t>. Retrieved from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ojjdp.gov/jjbulletin/9804/bullying2.html</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Berkowitz, M.W., &amp; Bier, M.C. (2005). What Works In Character Education: A research-driven guide for educators. </a:t>
            </a:r>
            <a:r>
              <a:rPr b="0" i="1" lang="en-US" sz="1000" spc="-1" strike="noStrike">
                <a:solidFill>
                  <a:srgbClr val="ffffff"/>
                </a:solidFill>
                <a:latin typeface="Times New Roman"/>
                <a:ea typeface="Times New Roman"/>
              </a:rPr>
              <a:t>University of Missouri- St. Louis. </a:t>
            </a:r>
            <a:r>
              <a:rPr b="0" lang="en-US" sz="1000" spc="-1" strike="noStrike">
                <a:solidFill>
                  <a:srgbClr val="ffffff"/>
                </a:solidFill>
                <a:latin typeface="Times New Roman"/>
                <a:ea typeface="Times New Roman"/>
              </a:rPr>
              <a:t>Retrieved from</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rucharacter.org/file/practitioners_518.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Farrington, D.P., &amp; Ttofi, M.M. (2009). School-Based Programs to Reduce Bullying and Victimization. </a:t>
            </a:r>
            <a:r>
              <a:rPr b="0" i="1" lang="en-US" sz="1000" spc="-1" strike="noStrike">
                <a:solidFill>
                  <a:srgbClr val="ffffff"/>
                </a:solidFill>
                <a:latin typeface="Times New Roman"/>
                <a:ea typeface="Times New Roman"/>
              </a:rPr>
              <a:t>Campbell Systematic Reviews. </a:t>
            </a:r>
            <a:r>
              <a:rPr b="0" lang="en-US" sz="1000" spc="-1" strike="noStrike">
                <a:solidFill>
                  <a:srgbClr val="ffffff"/>
                </a:solidFill>
                <a:latin typeface="Times New Roman"/>
                <a:ea typeface="Times New Roman"/>
              </a:rPr>
              <a:t>Retrieved from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ttp://www.google.com/url?sa=t&amp;rct=j&amp;q=&amp;esrc=s&amp;source=web&amp;cd=1&amp;ved=0</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CDUQFjAA&amp;url=http%3A%2F%2Fwww.campbellcollaboration.org%2Flib%2Fdownload%2F718%2F&amp;ei=N0vATrjfL-</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HW0QHx_ZRJ&amp;usg=AFQjCNGOvuMdtj1l5QZsTBcQZ4sEWMnLCA&amp;sig2=0Uw4GBjkg5SbUFTuC8gRdA</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Narvaez, D. &amp; Lapsley, D.K. (2006). Teaching Moral Character: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Two Strategies for Teacher Education. </a:t>
            </a:r>
            <a:r>
              <a:rPr b="0" i="1" lang="en-US" sz="1000" spc="-1" strike="noStrike">
                <a:solidFill>
                  <a:srgbClr val="ffffff"/>
                </a:solidFill>
                <a:latin typeface="Times New Roman"/>
                <a:ea typeface="Times New Roman"/>
              </a:rPr>
              <a:t>Center for Ethical Education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University of Notre Dame. </a:t>
            </a:r>
            <a:r>
              <a:rPr b="0" lang="en-US" sz="1000" spc="-1" strike="noStrike">
                <a:solidFill>
                  <a:srgbClr val="ffffff"/>
                </a:solidFill>
                <a:latin typeface="Times New Roman"/>
                <a:ea typeface="Times New Roman"/>
              </a:rPr>
              <a:t>Retrieved from http://www.nd.edu/~dnarvaez/documents/NarvaezLapsleyTeacher.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erson, A.E., Moiduddin, E., Hague-Angus, M., &amp; Malone, L.M. (2009).</a:t>
            </a:r>
            <a:r>
              <a:rPr b="1"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Survey of Outcomes Measurement in Research on Character Education Programs. </a:t>
            </a:r>
            <a:r>
              <a:rPr b="0" i="1" lang="en-US" sz="1000" spc="-1" strike="noStrike">
                <a:solidFill>
                  <a:srgbClr val="ffffff"/>
                </a:solidFill>
                <a:latin typeface="Times New Roman"/>
                <a:ea typeface="Times New Roman"/>
              </a:rPr>
              <a:t>United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States Department of Education. </a:t>
            </a:r>
            <a:r>
              <a:rPr b="0" lang="en-US" sz="1000" spc="-1" strike="noStrike">
                <a:solidFill>
                  <a:srgbClr val="ffffff"/>
                </a:solidFill>
                <a:latin typeface="Times New Roman"/>
                <a:ea typeface="Times New Roman"/>
              </a:rPr>
              <a:t>Retrieved from </a:t>
            </a:r>
            <a:r>
              <a:rPr b="0" lang="en-US" sz="1000" spc="-1" strike="noStrike" u="sng">
                <a:solidFill>
                  <a:srgbClr val="ffffff"/>
                </a:solidFill>
                <a:uFillTx/>
                <a:latin typeface="Times New Roman"/>
                <a:ea typeface="Times New Roman"/>
              </a:rPr>
              <a:t>http://www.servicelearning.org/filemanager/download/9060_survey_outcomes_measurement.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Good, C.P.,  McIntosh, K., &amp; Geitz, C. (2011). Integrating Bullying Prevention Into School-Wide Positive Behavior Support. </a:t>
            </a:r>
            <a:r>
              <a:rPr b="0" i="1" lang="en-US" sz="1000" spc="-1" strike="noStrike">
                <a:solidFill>
                  <a:srgbClr val="ffffff"/>
                </a:solidFill>
                <a:latin typeface="Times New Roman"/>
                <a:ea typeface="Times New Roman"/>
              </a:rPr>
              <a:t>Teaching Exceptional Children v. 44 no. </a:t>
            </a:r>
            <a:r>
              <a:rPr b="0" i="1" lang="en-US" sz="1000" spc="-1" strike="noStrike">
                <a:solidFill>
                  <a:srgbClr val="ffffff"/>
                </a:solidFill>
                <a:latin typeface="Times New Roman"/>
                <a:ea typeface="Times New Roman"/>
              </a:rPr>
              <a:t>	</a:t>
            </a:r>
            <a:r>
              <a:rPr b="0" i="1" lang="en-US" sz="1000" spc="-1" strike="noStrike">
                <a:solidFill>
                  <a:srgbClr val="ffffff"/>
                </a:solidFill>
                <a:latin typeface="Times New Roman"/>
                <a:ea typeface="Times New Roman"/>
              </a:rPr>
              <a:t>1. </a:t>
            </a:r>
            <a:r>
              <a:rPr b="0" lang="en-US" sz="1000" spc="-1" strike="noStrike">
                <a:solidFill>
                  <a:srgbClr val="ffffff"/>
                </a:solidFill>
                <a:latin typeface="Times New Roman"/>
                <a:ea typeface="Times New Roman"/>
              </a:rPr>
              <a:t>Retrieved from http://njbullying.org/documents/BullyingPosBehSupports.pdf</a:t>
            </a: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79200"/>
            <a:ext cx="8242560" cy="1335240"/>
          </a:xfrm>
          <a:prstGeom prst="rect">
            <a:avLst/>
          </a:prstGeom>
          <a:ln w="0">
            <a:noFill/>
          </a:ln>
        </p:spPr>
      </p:pic>
      <p:sp>
        <p:nvSpPr>
          <p:cNvPr id="319" name=""/>
          <p:cNvSpPr txBox="1"/>
          <p:nvPr/>
        </p:nvSpPr>
        <p:spPr>
          <a:xfrm>
            <a:off x="533520" y="1523880"/>
            <a:ext cx="8229600" cy="4191120"/>
          </a:xfrm>
          <a:prstGeom prst="rect">
            <a:avLst/>
          </a:prstGeom>
          <a:noFill/>
          <a:ln w="0">
            <a:noFill/>
          </a:ln>
        </p:spPr>
        <p:txBody>
          <a:bodyPr lIns="54720" tIns="91440" anchor="t">
            <a:normAutofit/>
          </a:bodyPr>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view of Literature </a:t>
            </a:r>
            <a:endParaRPr b="0" lang="en-US" sz="18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ccording to the World Health Organization in 1992, “anti-bullying interventions are promoted via the Health Promoting Schools Frame particularly in Europe”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structional strategies have been put in place that include school-wide interventions including School-Wide Positive Behavior Support (SWPBS), The Bullying Prevention in Positive Behavior Support (BP-PBS), and The Social Skills Group Intervention (S.S. GRIN) These programs have an overall goal to promote positive social and learning environments. These also focus on the students outcomes of bullying, social relations and safety</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structional strategies are world-wide which include countries like Italy, Canada, England, etc.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10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aracter Education has been put in place to teach respect, morality and values. </a:t>
            </a:r>
            <a:endParaRPr b="0" lang="en-US" sz="1600" spc="-1" strike="noStrike">
              <a:solidFill>
                <a:srgbClr val="000000"/>
              </a:solidFill>
              <a:latin typeface="Corbel"/>
            </a:endParaRPr>
          </a:p>
          <a:p>
            <a:pPr marL="438120" indent="-318960">
              <a:lnSpc>
                <a:spcPct val="100000"/>
              </a:lnSpc>
              <a:buClr>
                <a:srgbClr val="00b05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pic>
        <p:nvPicPr>
          <p:cNvPr id="321" name="Content Placeholder 15" descr=""/>
          <p:cNvPicPr/>
          <p:nvPr/>
        </p:nvPicPr>
        <p:blipFill>
          <a:blip r:embed="rId2"/>
          <a:stretch/>
        </p:blipFill>
        <p:spPr>
          <a:xfrm>
            <a:off x="0" y="3444840"/>
            <a:ext cx="3200400" cy="3413160"/>
          </a:xfrm>
          <a:prstGeom prst="rect">
            <a:avLst/>
          </a:prstGeom>
          <a:ln w="0">
            <a:noFill/>
          </a:ln>
          <a:effectLst>
            <a:outerShdw dist="95400" dir="10501253" blurRad="0" rotWithShape="0">
              <a:srgbClr val="000000">
                <a:alpha val="20000"/>
              </a:srgbClr>
            </a:outerShdw>
          </a:effectLst>
        </p:spPr>
      </p:pic>
      <p:sp>
        <p:nvSpPr>
          <p:cNvPr id="322" name="Cloud Callout 5"/>
          <p:cNvSpPr/>
          <p:nvPr/>
        </p:nvSpPr>
        <p:spPr>
          <a:xfrm>
            <a:off x="2438280" y="1676520"/>
            <a:ext cx="5639040" cy="2743200"/>
          </a:xfrm>
          <a:prstGeom prst="cloudCallout">
            <a:avLst>
              <a:gd name="adj1" fmla="val -46916"/>
              <a:gd name="adj2" fmla="val 5959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6"/>
          <p:cNvSpPr/>
          <p:nvPr/>
        </p:nvSpPr>
        <p:spPr>
          <a:xfrm>
            <a:off x="3352680" y="2133720"/>
            <a:ext cx="40388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ntegrating anti-bullying lessons and character education over a four-week period once a week 45 minutes a day with 27 third grade students at P.S. X in Brooklyn, New York will decrease anti-social behavior and increase student civility. This will be measured by integrating role play into the less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4" name="Picture 3" descr=""/>
          <p:cNvPicPr/>
          <p:nvPr/>
        </p:nvPicPr>
        <p:blipFill>
          <a:blip r:embed="rId3"/>
          <a:stretch/>
        </p:blipFill>
        <p:spPr>
          <a:xfrm>
            <a:off x="7391520" y="4876920"/>
            <a:ext cx="1571400" cy="1685880"/>
          </a:xfrm>
          <a:prstGeom prst="rect">
            <a:avLst/>
          </a:prstGeom>
          <a:ln w="0">
            <a:noFill/>
          </a:ln>
        </p:spPr>
      </p:pic>
      <p:sp>
        <p:nvSpPr>
          <p:cNvPr id="325" name=""/>
          <p:cNvSpPr txBox="1"/>
          <p:nvPr/>
        </p:nvSpPr>
        <p:spPr>
          <a:xfrm>
            <a:off x="0" y="1774800"/>
            <a:ext cx="9144000" cy="5083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30T01:15:29Z</dcterms:created>
  <dc:creator>Mother Sue</dc:creator>
  <dc:description/>
  <dc:language>en-US</dc:language>
  <cp:lastModifiedBy>Mother Sue</cp:lastModifiedBy>
  <dcterms:modified xsi:type="dcterms:W3CDTF">2011-12-13T01:49:57Z</dcterms:modified>
  <cp:revision>25</cp:revision>
  <dc:subject/>
  <dc:title>Emily Paul Educ. 702.22  Fall 2011</dc:title>
</cp:coreProperties>
</file>